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0BA-416F-4C1E-823C-8131D53D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AE0-2ACC-42ED-8B32-C828D6DF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19422-DCF6-41C8-B3BA-238E0B23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D0AF6-2251-4FA3-B28F-2CE7F996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3F43C-EE96-46DD-8B6E-E1D61C8A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36997-797D-4465-AE56-949C3F3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722AC-4011-493C-8475-4ADCE632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458BD-30AB-43F1-B00B-08D6DF4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7BB2D-AD4C-4D32-B5B8-672EB3FD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9F915-F0B0-42C0-AF70-A72A8199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2DFDA-06DF-4C6C-B783-635FB49D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03476-E550-4B3E-9131-E419710D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087-18B1-4462-80E5-1EF99A97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52604-C88C-4556-82E4-CF2774AA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E81BF-00CF-4AF1-914B-5D82F085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B26E1-EC88-4223-9A1C-25469595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A2E75-01DC-4FB3-A329-72A72AAD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BC35A-DE44-4763-A486-BCDB1810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B4209-CC83-4273-B6FF-2534801D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3EE92-9252-4615-9414-E64D438B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34FAE-0E75-4FFA-8C04-57FEF245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B090B-2188-4880-99E1-854A1D4F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4C41F-3143-4933-AAC6-9E739E7C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AC1-B4A2-48C3-B955-8BDCEA55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DDAD8-4939-4646-A716-E4D75A0A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D5FE5-80C1-4113-B947-B3B08657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03CD2-B73B-4DFB-A64E-4918F7B0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DB47E-998F-4938-93A2-B2E48646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48366-D61B-4397-92F1-E88BBA6F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0BE9F-0A79-48D2-8204-E9C0B922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A3D4C-ACCF-400A-9BFA-CD2CAF1B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F4D36-0700-4D33-9BBF-D77AE2D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FE3ED-7D64-4BBF-AE39-44933BA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CF827-F60D-49A5-8769-1DA55215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6261-3326-4CBE-97D4-E4231D0D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990C7-F6E7-42E6-BA1B-62E53D6F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F9F4D-E908-44E9-80DA-FAC084BF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EDAA7-CC21-4CB2-833F-CBE27822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20DE8-855C-43B3-B112-16658862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336A8-7C32-4377-92C9-62B6F1EE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E9E8F-44C8-4B99-83A5-AFE54E21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F222D-B748-4268-8308-020AFD83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4A544-A7FE-4BC0-819F-9689A391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B04B-3227-48D1-B121-6741A483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5BA95-7389-4982-8C13-186E6E95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E2A9-1AA1-4142-B429-BDA1AB64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6FA1A-1B38-4C29-93C9-5E608C8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2FD98-991D-4DE0-AB38-5D0FF758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8676C-0BEB-4349-A5B5-93F2226D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FFEA2-AC0D-44A1-AC1D-DA6323A7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91DF3-EBEB-4C22-B731-6F2A1E06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27236-6063-4799-AB3D-EE01707A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21DFF-ED36-47EB-8B09-5578E493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735C6-BEC2-4F24-B2B4-39DD0029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B344B-CD96-4C6C-8367-16AFA6D5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9D014-BC3B-452E-99BC-F8AE5076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7422-3861-4226-95C6-29949437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136E9-20F0-4D54-B39A-3FF5DA54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488A4-587D-4EC4-8C89-6A80874F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BAB64-F020-4911-94DC-2B6DEBD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735E9-F30F-4C39-8A52-F6C64101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47A08-F933-45A1-9C55-0D8523FC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569F7-73A7-4BC3-A9C2-7BAAC281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27AC7-DBBD-4A00-B158-D637E381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1E4E7-DC7B-436E-9004-37BAEA76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C28ED-504F-482A-AA07-709122B4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9769F-CC76-41F3-9ED1-2047D73D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585F-ED04-4238-B692-E7981954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274E4-8B46-4CC2-8F57-3A29AD39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9D9EF-C3A3-41AA-992D-93766499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DB4A3-9AEA-4497-A4DD-65A789DF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33810-ACCE-4BF3-B4C2-568D265A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648C9-B1B4-4F80-8A79-09579A79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56406-F3D6-434A-B9E7-2F396A06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06D18-4183-4B7F-AA28-C5455BAC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F3248-77E2-4F8A-A467-2EA688E7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4F9E9-FAB1-4989-94C3-E61934D1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BB4D9-C208-42C3-B07E-312FC71C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E61C-51CB-4F4A-A623-689075DF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57C4A-203D-4907-8780-E6B60CB2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FF8DC-A136-499A-A20C-1B82E83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24C43-D84C-4BCD-90A2-38C09EDF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6A757-68E1-4116-A98D-53AF12D8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FBB6E-CFB7-4B92-B72A-5F644EDD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C5E2A-A50A-412B-A6AE-F283A77C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E5944-7472-4EE7-B1F9-EE4B2332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0953E-3271-4DE0-9FDA-7A220966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7C7D9-8A72-4410-BA31-23F4F545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AFFDD-5B93-451F-B91E-8FE9D336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E65A-93B5-48C1-A666-E041185F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E827E-ADCD-49CF-8A1C-E3198420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30D66-71E3-476B-BCDE-01E9F659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632CD-070D-4259-86C2-505B2DA4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F2121-1E80-4AB5-9378-F9421895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30710-03AB-4234-8FF1-EB663ADC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09473-08D0-4A60-B84B-3A35342C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82CAF-1F16-46DA-87B4-BA87A91F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A383C-2B60-48C4-B537-9019A56D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8C688-A25A-405E-80D8-6C4041C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8F07D-7260-40E3-9AC1-F630D164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A5AA-FC6E-43FD-88B3-83D535C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7FF71-7563-44B6-B727-F6C398BA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EACF1-81DA-4B2D-8B1E-C16C89DE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9B98A-7CAB-4B66-9148-2EEE791A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CC8C8-3136-4C3F-94F2-3FCC267F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0D1A8-8749-498A-B7D2-9E609FA5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8EF25-0649-44F5-B7E2-917E6BC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AD2967-4378-4AAB-B15F-CC1F6149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05D86-787F-4D8B-9914-AE5BAEC1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7367D-C512-4378-BBC5-9A7C00D0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D7235-887E-4624-9F10-1584639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4B7-5077-4D8F-8587-836F3A69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DFA0-09AE-4A5C-8664-68B17B9F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2C5B7F-7FC6-4546-B221-70958BFF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15796-6B5A-4B14-8BF5-1F8F9417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F0EF4-BB1C-47C9-A0A8-3D93732D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5AF5B-C468-4B07-869A-FDC560D8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E71EA-64BC-4E0F-A955-62B7C53A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28DAC-06AD-4F7C-AEF6-9B5FB63B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0D602-94D1-4825-B9D3-C4EF7CA7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751A4-F6CA-4682-B6EB-D643F82F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E6C445-73B2-4C29-B250-9F2F94BF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2BA70-64B8-4DBF-A71E-16722CA7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8869-9BCD-447E-8084-7929435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4374D6-C3AC-420B-8578-D99CBBBC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10B41-500D-4D75-8830-D425C320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1A793-EB3A-490F-8C16-C4D95E1B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9FD44-A6C3-4A7B-A93D-EFE18CCA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C7A276-1263-4DE0-8481-BA323D75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AAAB56-37E0-4F95-B85B-390EE8D8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9F916-0FC1-4993-8E44-50F8571C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A7E022-53D2-4BD6-A814-4C884F21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785DA-CBE6-4D87-B0CC-0B51EF2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3E2C6E-4CEF-46A7-8225-28FC0B5B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8B18-E581-45E7-99FE-7506E61C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D7936-1629-46AB-A194-5159CDE5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0053F-7D63-4484-85F0-56DF6C11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81534-7054-4473-BE26-097AD489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E9010-8625-4BD1-B2FC-00DC4A8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AC199B-A9A0-490B-981E-C27DFFF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601604-4182-440B-A378-002CF481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4DF1FA-BE69-433F-BB5C-B540116F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A2019-5B69-4E1F-8E3F-C583D44F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FAF7F-438A-4B79-8D2F-DA7D7AAB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25B68-1CC8-400C-9247-7A0E1C2D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23F3-2D60-491F-BD8A-FE609741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81AC6-2B0C-4790-AD66-A48C52CE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5B329-5804-4485-A85A-BB317074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A840D-DEF1-4D43-9D29-5ED5ECF8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8CAC5B-04B3-489D-A2CE-914AD63C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F276E-E9D8-4F07-9020-84A74868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86B2F-A0AF-48A8-95C3-D8F3859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D1465-3D90-4AFC-A519-2CEEBD5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099F99-66C0-4B64-95C4-49BB191C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05CDB-A618-42BF-8738-978D547C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5E354-2BD1-4B20-83EC-E8182FE2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6AAA-EC6D-40BC-9907-26672436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F1C87-5E41-44CB-8F9A-BB2A6230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452739-3A2B-419C-9AED-55213583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109C17-1FA7-42C2-AF6F-D93FFCB7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3205FA-AC22-43EB-A74A-2453CF04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7DAE1-FFC4-4ECD-BCDE-6BA4E34A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042CB-FFD6-4D27-9719-CE42B33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84CFD-16A4-4717-BA6D-FBC17892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CC11B-9DEB-40B8-83E0-0B7624EA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27F69-B94B-44F5-82D1-7D2D9EC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E14992-5595-4F35-8C8D-A6D395B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086B-4378-4C82-9F7B-81200E09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72666E-7665-432E-82E2-E5A7C2D2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C97D8-ABEF-446A-AD3B-A3B5396C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6C65A-3159-483D-B513-65EB2D89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6C8A-CDA0-4527-9FAD-F5D54ED7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FA78-7A26-4A5B-BDF5-86D6F3A5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C3F52-8C0B-4154-BE9F-6AE01F13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5DDB-ECA5-4CF0-B93D-E1852BC0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739-1717-475A-89E5-96D0CC1C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015D-5EAF-47A7-9F87-1356DFC7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0376-5846-477A-BD1D-429EDD7A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33D0-89C1-4B28-8E9A-EE1E8F2C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4725-558D-4347-B408-7EF59E15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DABC-6017-4F2D-9DC6-94BAC897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B2E3-F9D0-4A55-8FCC-FCA801F4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29E9-86BB-4AB7-90BA-FA6199EE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8848-26B4-44B7-957F-F3A80FD8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7BE7-9808-4B69-A2CD-206BB698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DB69-AEE2-459E-862A-FCEC7B19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0D1-E80E-47D3-B3D1-C32F3C2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ACF4-4E05-4F3A-8B2F-234DFD85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EB77-410F-4773-A517-433787D0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BBF92-9351-4032-8C87-E5B6A9F9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9409-1F40-432B-9726-A58362F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E5F2C-DE87-4004-8E8D-6FFD409F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0986-6592-4A91-82E2-A3B566AB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1B21-B4BF-4B54-8566-EFA2E23D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8433-6FF8-4007-AA06-2FAD4DEE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266D-60D7-417C-9EA8-529081E1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5F9D-BD68-4604-AC91-FEA65ADE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FF7-CBA4-4904-8EAE-DC28B7D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B7553-1717-4341-BC88-78E75A43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AF99B-256A-4607-9C67-3A1E0FFC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AB8E-978C-45C0-A7FC-7A584B36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7B539-82E7-4113-ADF5-0072D68C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B3BC7-EDDF-45D6-8761-C834F4ED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0020A-B21B-4CB5-8B9E-281B8512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7DF82-8AC4-4084-A790-B543E206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26BF-323E-4D26-8E9E-C958210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0BA9-12D1-4ACF-89FE-C67C0BCB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FEC04-2801-445E-A615-0926A77A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F19-A198-4EB0-9C63-FA2A8B7E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721FD-79B5-442D-9451-E50C8B94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21FF4-BF3B-43A8-8051-C8042127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C13FF-854E-4543-B22F-3A3C1FEB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8F346-A15E-401C-BA02-82422D58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2600E-EF88-4CEB-8A5F-9A53470B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8210-895E-4E7D-A6BF-37D3AE30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247DB-215B-41DA-BBF0-53057011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CBE0F-CCC1-4EAE-842C-08304775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AA3A5-7E98-48D6-BB1D-A20C0849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673C-4F58-48A2-B253-78BC80A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B46-50EA-4BF3-BB67-F02D61F8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3802A-409A-402C-989F-6D3E4DE7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43011-A623-427F-8CB7-AAD0619E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BCFD4-B89D-439F-8352-7AC244A6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0D302-E4EE-436A-A90A-7A48E671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4E9E7-DF55-4895-966D-2F696D40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55FBD-8E9C-40CE-AF76-952A692A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BF2A-5D69-4596-93ED-BBECEB42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AE670-B5FF-459B-BC5D-646255DC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D03B9-0C83-414D-8631-D3E4B0A2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7C947-CD02-4DD3-BBC4-D1DDA61F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071-7D70-4EBF-AC68-DC2D961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64499-8168-46D0-B1CC-041F1681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2E539-D360-4B45-83F9-CEEC8D2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E7A7F-BA01-459B-A54B-4BD98221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E104-A6AD-4850-941C-3592929B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C5AB9-8093-4558-AB25-B8F78014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6E5E7-2653-4510-B9DE-46C80C49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ACE42-B02C-495C-A4E0-DEA5F258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5DF46-221B-450C-B31B-619AFC3B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51B02-B78D-4CBF-A15C-A593DA8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6DF4A-4806-46F8-B2E9-2888D73F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081-AA19-40BE-8E29-6AD8B25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1F572-CEE7-47DA-8F61-BDC114E0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809F-FE06-4A76-A22C-5C31A4B0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E13C6-AB81-4134-BC07-18736CA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D3563-F479-4470-AC7E-BE20D4DF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23E13-778C-4D2F-B1FD-D9363B0F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F9387-B4E6-4B75-B93F-78AFA6F0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6EEC5-5096-42C5-8E6D-8FAAE3C9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1C816-94CC-41F2-9CAB-C570B2CD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E2D19-BB6B-48F2-902D-B72AAB8F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E8690-3ABE-4254-9C25-63374B34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9966-784B-46C9-A1E2-62E5038F4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D6C4-5FE9-4F6E-A944-9A04D4173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C906-ECC9-4A5A-9DB6-EFB4DF3714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6FF2-93CB-4D1F-86CB-91829A157F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403E-D191-423A-8A46-723B7EBC60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7D4C-A342-40FC-8C10-2CAF5AF522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1D78-9009-47EF-A1D4-D8DBB19CD1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68E9-E840-4C03-A056-A1609267FB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644-4A8C-4482-8A30-BFDA20D79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CF2E-514A-44A6-97D2-C54A9F0AC4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8A68-B81E-41E2-828B-BDBC2ED65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0562-497D-4CE6-AE7C-B870317E93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DAB7-B46D-4FAA-A83A-EBD7B1EB9A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111C-B420-4F20-9C69-C0363DD308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B889-6EB6-416F-9768-70F41BFBFE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AD81-44F2-4818-86B8-31986E4949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469D-0A47-4DA6-BE2E-108C9814CD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A24C-FFE7-4FE2-A374-89E06C75EA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DF3-B8EC-4435-BD91-0750FF37C2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C6C7-A310-4F66-91F7-6FA4466E65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C515-36BA-43E0-9F03-023354220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D99D-F9DF-4702-8FA0-35FF18B87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5065-45B4-4340-B1BA-EBDD33145D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1FC4-A97F-49C6-9400-97964F024F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CE94-5B7E-4057-93A2-DDEBD7A59D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C105-2838-4BFB-9F12-0E57071BBF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E918-ED7E-469A-AE17-3180BE7C9C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E49C-540A-4C15-ACD8-DF38C8E0E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24DC-5BC4-411F-BFE9-3E63B9A427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F714-B2C0-4426-810E-441662354D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6D75-7D8B-46F7-8F79-21F772547C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D24-F6FE-4EA2-B369-F3CDEECCEC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6D24-D94E-40C1-AEB6-96CE29B58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616F-6CB6-4187-A9D8-805D3AB02F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11E4-DC5E-4E22-8ACD-C97F34313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784E-95A9-404C-BA89-4A42BE2B5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9149-6A64-43B2-B7F2-3EB9C68A27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7B74-48BA-462E-834F-FB104B911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D997-F2B2-41A4-8CDD-B59C74CCD5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D785-5F34-4294-A62F-A9F436773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228760" y="2633760"/>
            <a:ext cx="468648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685800" y="1023840"/>
            <a:ext cx="7772400" cy="48103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2"/>
          <a:stretch/>
        </p:blipFill>
        <p:spPr>
          <a:xfrm>
            <a:off x="5072040" y="164304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3"/>
          <a:stretch/>
        </p:blipFill>
        <p:spPr>
          <a:xfrm>
            <a:off x="3857760" y="2868480"/>
            <a:ext cx="1214280" cy="4050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4"/>
          <a:stretch/>
        </p:blipFill>
        <p:spPr>
          <a:xfrm>
            <a:off x="3071880" y="4084560"/>
            <a:ext cx="857160" cy="4032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5"/>
          <a:stretch/>
        </p:blipFill>
        <p:spPr>
          <a:xfrm>
            <a:off x="2786040" y="528624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333360" y="1066680"/>
            <a:ext cx="8477280" cy="47246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2"/>
          <a:stretch/>
        </p:blipFill>
        <p:spPr>
          <a:xfrm>
            <a:off x="7929720" y="171468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3"/>
          <a:stretch/>
        </p:blipFill>
        <p:spPr>
          <a:xfrm>
            <a:off x="4572000" y="285768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4"/>
          <a:stretch/>
        </p:blipFill>
        <p:spPr>
          <a:xfrm>
            <a:off x="6929280" y="4119480"/>
            <a:ext cx="857520" cy="4050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5"/>
          <a:stretch/>
        </p:blipFill>
        <p:spPr>
          <a:xfrm>
            <a:off x="5857920" y="4714920"/>
            <a:ext cx="1214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390600" y="787320"/>
            <a:ext cx="8362800" cy="60008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2"/>
          <a:stretch/>
        </p:blipFill>
        <p:spPr>
          <a:xfrm>
            <a:off x="285840" y="573876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3"/>
          <a:stretch/>
        </p:blipFill>
        <p:spPr>
          <a:xfrm>
            <a:off x="285840" y="6346800"/>
            <a:ext cx="87152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657360" y="1092240"/>
            <a:ext cx="7829280" cy="53704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285840" y="1131840"/>
            <a:ext cx="8715240" cy="4032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285840" y="1762200"/>
            <a:ext cx="8715240" cy="7905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4"/>
          <a:stretch/>
        </p:blipFill>
        <p:spPr>
          <a:xfrm>
            <a:off x="285840" y="271476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5"/>
          <a:stretch/>
        </p:blipFill>
        <p:spPr>
          <a:xfrm>
            <a:off x="285840" y="3357720"/>
            <a:ext cx="8715240" cy="8110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6"/>
          <a:stretch/>
        </p:blipFill>
        <p:spPr>
          <a:xfrm>
            <a:off x="285840" y="430992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7"/>
          <a:stretch/>
        </p:blipFill>
        <p:spPr>
          <a:xfrm>
            <a:off x="285840" y="4952880"/>
            <a:ext cx="871524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71360" y="966960"/>
            <a:ext cx="8801280" cy="5486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4643280" y="2071800"/>
            <a:ext cx="1285920" cy="330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6500880" y="2071800"/>
            <a:ext cx="1214280" cy="330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6143760" y="2446200"/>
            <a:ext cx="1285920" cy="312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6215040" y="2801880"/>
            <a:ext cx="1071720" cy="279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4643280" y="3465360"/>
            <a:ext cx="649440" cy="330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1928880" y="3833640"/>
            <a:ext cx="649080" cy="330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1357200" y="4929120"/>
            <a:ext cx="1000080" cy="330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3143160" y="4929120"/>
            <a:ext cx="1214640" cy="330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10"/>
          <a:stretch/>
        </p:blipFill>
        <p:spPr>
          <a:xfrm>
            <a:off x="5000760" y="4929120"/>
            <a:ext cx="1571400" cy="330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1"/>
          <a:stretch/>
        </p:blipFill>
        <p:spPr>
          <a:xfrm>
            <a:off x="1357200" y="5678640"/>
            <a:ext cx="1000080" cy="330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12"/>
          <a:stretch/>
        </p:blipFill>
        <p:spPr>
          <a:xfrm>
            <a:off x="3071880" y="5667480"/>
            <a:ext cx="1571400" cy="330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13"/>
          <a:stretch/>
        </p:blipFill>
        <p:spPr>
          <a:xfrm>
            <a:off x="2643120" y="6048360"/>
            <a:ext cx="121464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123840" y="984240"/>
            <a:ext cx="8896320" cy="5324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8388360" y="229716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8388360" y="451800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8388360" y="5600880"/>
            <a:ext cx="38592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162000" y="1127160"/>
            <a:ext cx="8820000" cy="5181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8388360" y="148896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8388360" y="3024360"/>
            <a:ext cx="385920" cy="3283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8388360" y="410040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5"/>
          <a:stretch/>
        </p:blipFill>
        <p:spPr>
          <a:xfrm>
            <a:off x="8388360" y="5243400"/>
            <a:ext cx="3859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2" descr=""/>
          <p:cNvPicPr/>
          <p:nvPr/>
        </p:nvPicPr>
        <p:blipFill>
          <a:blip r:embed="rId1"/>
          <a:stretch/>
        </p:blipFill>
        <p:spPr>
          <a:xfrm>
            <a:off x="333360" y="860400"/>
            <a:ext cx="8477280" cy="5856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7929720" y="3271680"/>
            <a:ext cx="519120" cy="443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7929720" y="568944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314280" y="835200"/>
            <a:ext cx="8515440" cy="5819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7983360" y="312912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7972560" y="555768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324000" y="863640"/>
            <a:ext cx="8496000" cy="58482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7929720" y="384336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38280" y="1208160"/>
            <a:ext cx="7867440" cy="50274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2"/>
          <a:stretch/>
        </p:blipFill>
        <p:spPr>
          <a:xfrm>
            <a:off x="7643880" y="116676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371520" y="1000080"/>
            <a:ext cx="8400960" cy="167652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" descr=""/>
          <p:cNvPicPr/>
          <p:nvPr/>
        </p:nvPicPr>
        <p:blipFill>
          <a:blip r:embed="rId2"/>
          <a:stretch/>
        </p:blipFill>
        <p:spPr>
          <a:xfrm>
            <a:off x="981000" y="2868480"/>
            <a:ext cx="7791480" cy="3494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2000160" y="3429000"/>
            <a:ext cx="1214640" cy="442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2071800" y="4691160"/>
            <a:ext cx="1357200" cy="4046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5"/>
          <a:stretch/>
        </p:blipFill>
        <p:spPr>
          <a:xfrm>
            <a:off x="2214720" y="5892840"/>
            <a:ext cx="1357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0:49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